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59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png" ContentType="image/png"/>
  <Override PartName="/ppt/media/image40.jpeg" ContentType="image/jpeg"/>
  <Override PartName="/ppt/media/image1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34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17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79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160-DFFB-40BC-8177-BD537A60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6C8-7498-48CC-895C-0AB1C1B2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7C7-EC14-4256-8A0B-AD3EA992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47C-3E47-43FC-8989-C6AED186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4D37-E743-41BC-8F65-988322FF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82C8-25A6-419D-ADCB-95AD7972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363D-220F-494E-87CB-8700B3D5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3B2B-4BFC-48D8-A91C-E22040DD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4956-9C62-4D7F-BE9F-4B3DE30A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87B6-34DA-419A-B7B2-F457B93A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3800-1E41-4C86-889D-4A7F4AF3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2BB-B7E9-4465-A1BF-26AF7CEB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66A3-96D3-4593-A766-EC4A5763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FE0B-A69D-48BD-A4B3-5FC3C7B0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57FF-5813-4A9F-BDC7-6EECD237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2FC8-3E2B-4B21-9003-CBF3F6A9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02B1-9765-40EF-8EC3-A58172CA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20D-BB1F-46A1-A4D6-FDB3180B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7CD-8A83-4296-A7E4-8A9D14AC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E13-894F-4C0B-A2DF-98C921A0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B3B-B574-4A55-B701-29BF7023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00A-3337-40DA-BABC-E8127189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7D7-8396-47BA-92D2-8DCF3C6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50A-1E3D-4C3D-B378-B0DEF163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5702400"/>
            <a:ext cx="9175680" cy="1171440"/>
            <a:chOff x="-12600" y="5702400"/>
            <a:chExt cx="9175680" cy="1171440"/>
          </a:xfrm>
        </p:grpSpPr>
        <p:sp>
          <p:nvSpPr>
            <p:cNvPr id="1" name="Freeform 3"/>
            <p:cNvSpPr/>
            <p:nvPr/>
          </p:nvSpPr>
          <p:spPr>
            <a:xfrm>
              <a:off x="111240" y="5702400"/>
              <a:ext cx="8997840" cy="928440"/>
            </a:xfrm>
            <a:prstGeom prst="pie">
              <a:avLst/>
            </a:pr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12600" y="5743440"/>
              <a:ext cx="9175680" cy="11304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761B-B307-4307-8250-FCD04C26C6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3416400"/>
            <a:ext cx="9167760" cy="3457440"/>
            <a:chOff x="0" y="3416400"/>
            <a:chExt cx="9167760" cy="3457440"/>
          </a:xfrm>
        </p:grpSpPr>
        <p:sp>
          <p:nvSpPr>
            <p:cNvPr id="45" name="Freeform 3"/>
            <p:cNvSpPr/>
            <p:nvPr/>
          </p:nvSpPr>
          <p:spPr>
            <a:xfrm>
              <a:off x="146160" y="3416400"/>
              <a:ext cx="8993160" cy="3436920"/>
            </a:xfrm>
            <a:prstGeom prst="pie">
              <a:avLst/>
            </a:pr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3427560"/>
              <a:ext cx="9167760" cy="3446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853A-5AE4-4158-91B6-B80D27F8C9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wog.net/uploads/Jester%25201.jpg&amp;imgrefurl=http://www.bwog.net/tags/jester&amp;usg=__k7e4oEtW117nBZyOfnAg5gNse7s=&amp;h=457&amp;w=300&amp;sz=20&amp;hl=EN&amp;start=4&amp;tbnid=e28HFnJ9KhklHM:&amp;tbnh=128&amp;tbnw=84&amp;prev=/images?q=jester&amp;gbv=2&amp;hl=EN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google.com/imgres?imgurl=http://users.ox.ac.uk/~kgroup/tools/nest_photos/nest0002.jpg&amp;imgrefurl=http://users.ox.ac.uk/~kgroup/tools/nest_photos.shtml&amp;usg=__Fy4qmjRaEcilOp5DDmLHEyHV40E=&amp;h=375&amp;w=500&amp;sz=251&amp;hl=EN&amp;start=5&amp;tbnid=D_Ann_rhaPu7dM:&amp;tbnh=98&amp;tbnw=130&amp;prev=/images?q=nest&amp;gbv=2&amp;hl=EN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s.google.com/imgres?imgurl=http://rajagro.in/yahoo_site_admin/assets/images/radpest.255121535_std.gif&amp;imgrefurl=http://rajagro.in/services&amp;usg=__TuX8jX49XxVZsjLgPAeB3lwhP8o=&amp;h=384&amp;w=513&amp;sz=16&amp;hl=EN&amp;start=1&amp;tbnid=vzjv-1WC8773_M:&amp;tbnh=98&amp;tbnw=131&amp;prev=/images?q=pest&amp;gbv=2&amp;hl=EN" TargetMode="External"/><Relationship Id="rId6" Type="http://schemas.openxmlformats.org/officeDocument/2006/relationships/image" Target="../media/image48.jpeg"/><Relationship Id="rId7" Type="http://schemas.openxmlformats.org/officeDocument/2006/relationships/hyperlink" Target="http://images.google.com/imgres?imgurl=http://www.woodruffforpets.com/embroidered/ladies_vest_powderblue.jpg&amp;imgrefurl=http://www.woodruffforpets.com/embroidered-personalized-dog-cat-breed-jacket-vest-womans-mens.html&amp;usg=___Jm0LT_nuTQA-H8o71CEL4ladcQ=&amp;h=492&amp;w=345&amp;sz=130&amp;hl=EN&amp;start=7&amp;tbnid=SJpZU8f7t_JgwM:&amp;tbnh=130&amp;tbnw=91&amp;prev=/images?q=vest&amp;gbv=2&amp;hl=EN" TargetMode="External"/><Relationship Id="rId8" Type="http://schemas.openxmlformats.org/officeDocument/2006/relationships/image" Target="../media/image49.jpeg"/><Relationship Id="rId9" Type="http://schemas.openxmlformats.org/officeDocument/2006/relationships/hyperlink" Target="http://images.google.com/imgres?imgurl=http://www.cedaridge-farm.com/oak-hope-chest-kit.jpg&amp;imgrefurl=http://www.cedaridge-farm.com/&amp;usg=__sjtnI3_qoRjygJIKs6o-c_OzKtM=&amp;h=468&amp;w=446&amp;sz=21&amp;hl=EN&amp;start=11&amp;tbnid=70fCZAL45XjLoM:&amp;tbnh=128&amp;tbnw=122&amp;prev=/images?q=chest&amp;gbv=2&amp;hl=EN" TargetMode="External"/><Relationship Id="rId10" Type="http://schemas.openxmlformats.org/officeDocument/2006/relationships/image" Target="../media/image50.jpeg"/><Relationship Id="rId11" Type="http://schemas.openxmlformats.org/officeDocument/2006/relationships/image" Target="../media/image51.jpeg"/><Relationship Id="rId1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Strongest%20One.htm" TargetMode="External"/><Relationship Id="rId2" Type="http://schemas.openxmlformats.org/officeDocument/2006/relationships/hyperlink" Target="http://www.scottsboro.org/~flewis/spellmaster/Strongest%20One/jigword2.html" TargetMode="External"/><Relationship Id="rId3" Type="http://schemas.openxmlformats.org/officeDocument/2006/relationships/hyperlink" Target="http://www.scottsboro.org/~flewis/spellmaster/Strongest%20One/matchword2.html" TargetMode="External"/><Relationship Id="rId4" Type="http://schemas.openxmlformats.org/officeDocument/2006/relationships/hyperlink" Target="http://www.scottsboro.org/~flewis/spellmaster/Strongest%20One/speedword2.html" TargetMode="External"/><Relationship Id="rId5" Type="http://schemas.openxmlformats.org/officeDocument/2006/relationships/hyperlink" Target="http://www.scottsboro.org/~flewis/spellmaster/Strongest%20One/wordsearch2.html" TargetMode="External"/><Relationship Id="rId6" Type="http://schemas.openxmlformats.org/officeDocument/2006/relationships/hyperlink" Target="http://www.scottsboro.org/~flewis/spellmaster/Strongest%20One/wordweb.html" TargetMode="External"/><Relationship Id="rId7" Type="http://schemas.openxmlformats.org/officeDocument/2006/relationships/hyperlink" Target="http://www.spellingcity.com/index.php?option=com_spellcity&amp;task=viewList&amp;listId=825867" TargetMode="External"/><Relationship Id="rId8" Type="http://schemas.openxmlformats.org/officeDocument/2006/relationships/hyperlink" Target="http://www.spellingcity.com/index.php?option=com_spellcity&amp;task=viewList&amp;listId=825871" TargetMode="External"/><Relationship Id="rId9" Type="http://schemas.openxmlformats.org/officeDocument/2006/relationships/hyperlink" Target="http://www.scottsboro.org/~flewis/spellmaster/Strongest%20One%20Spelling%20Words/speedword2.html" TargetMode="External"/><Relationship Id="rId10" Type="http://schemas.openxmlformats.org/officeDocument/2006/relationships/hyperlink" Target="http://www.scottsboro.org/~flewis/spellmaster/Strongest%20One%20Spelling%20Words/wordweb.html" TargetMode="External"/><Relationship Id="rId11" Type="http://schemas.openxmlformats.org/officeDocument/2006/relationships/hyperlink" Target="http://www.quia.com/hm/313665.html" TargetMode="External"/><Relationship Id="rId12" Type="http://schemas.openxmlformats.org/officeDocument/2006/relationships/hyperlink" Target="http://www.spellingcity.com/index.php?option=com_spellcity&amp;Itemid=122&amp;task=viewList&amp;listId=354203" TargetMode="External"/><Relationship Id="rId13" Type="http://schemas.openxmlformats.org/officeDocument/2006/relationships/hyperlink" Target="http://www.scottsboro.org/~flewis/SF%20Reading%20Street/Hot%20Potatoes/Strongest_One.htm" TargetMode="External"/><Relationship Id="rId14" Type="http://schemas.openxmlformats.org/officeDocument/2006/relationships/hyperlink" Target="http://www.spellingcity.com/index.php?option=com_spellcity&amp;task=viewList&amp;listId=825878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com/imgres?imgurl=http://images.buycostumes.com/mgen/merchandiser/33922.jpg&amp;imgrefurl=http://www.buycostumes.com/Cop-Set-Plus-Adult/33931/ProductDetail.aspx&amp;usg=__gsZpvIsZ6hTDZaa-r8_O-1KeBOM=&amp;h=4482&amp;w=2688&amp;sz=475&amp;hl=EN&amp;start=29&amp;tbnid=eiLST36EZLmzUM:&amp;tbnh=150&amp;tbnw=90&amp;prev=/images?q=cop&amp;gbv=2&amp;ndsp=20&amp;hl=EN&amp;sa=N&amp;start=20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euro-quest.tripod.com/sitebuildercontent/sitebuilderpictures/swing-dance-classes-lindy-hop-image-1001.gif&amp;imgrefurl=http://euro-quest.tripod.com/oslo_swing_lindy_hop_dance_classes/&amp;usg=__PgLdY3Hw18QcU492H5n1qCPqydQ=&amp;h=335&amp;w=300&amp;sz=37&amp;hl=EN&amp;start=2&amp;tbnid=tmLxfPC5z_V5UM:&amp;tbnh=119&amp;tbnw=107&amp;prev=/images?q=hop&amp;gbv=2&amp;hl=E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www.acejanitorial.co.uk/images/products/HA014.JPG&amp;imgrefurl=https://www.mahalo.com/Mop&amp;usg=__Vh38ruPleV5cCQzzgzn-8Aw1fJY=&amp;h=520&amp;w=624&amp;sz=123&amp;hl=EN&amp;start=8&amp;tbnid=5uknswoQzuAEqM:&amp;tbnh=113&amp;tbnw=136&amp;prev=/images?q=mop&amp;gbv=2&amp;hl=EN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groveinteriors.com.au/groveint/components/com_virtuemart/shop_image/product/ddf77a49fe560c6eb1177d9ae21dd80c.jpg&amp;imgrefurl=http://groveinteriors.com.au/groveint/index.php?page=shop.browse&amp;category_id=19&amp;option=com_virtuemart&amp;Itemid=26&amp;usg=__P46e5ibHT_a0lRAH-tRG3KS4ddY=&amp;h=320&amp;w=320&amp;sz=24&amp;hl=EN&amp;start=7&amp;tbnid=uU4KMiEtfH_vLM:&amp;tbnh=118&amp;tbnw=118&amp;prev=/images?q=toy+top&amp;gbv=2&amp;hl=EN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images.google.com/imgres?imgurl=http://www.dri.ne.jp/english/kanran/images/shop.jpg&amp;imgrefurl=http://www.dri.ne.jp/english/kanran/shop.html&amp;usg=__MwlQFK0GpWHcf6blbJDGTP2twkY=&amp;h=350&amp;w=523&amp;sz=63&amp;hl=EN&amp;start=17&amp;tbnid=mgJXSwkkPYX46M:&amp;tbnh=88&amp;tbnw=131&amp;prev=/images?q=shop&amp;gbv=2&amp;hl=EN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images.google.com/imgres?imgurl=http://z.about.com/d/localfoods/1/0/x/-/-/-/LeekChop.jpg&amp;imgrefurl=http://localfoods.about.com/od/preparationtips/ss/CleanLeeks_5.htm&amp;usg=__ke4XNitKx2ElZ1MuWpP9RJ9QuuE=&amp;h=375&amp;w=500&amp;sz=76&amp;hl=EN&amp;start=20&amp;tbnid=euo4iGZOSW5sQM:&amp;tbnh=98&amp;tbnw=130&amp;prev=/images?q=chop&amp;gbv=2&amp;hl=EN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images.google.com/imgres?imgurl=http://www.intercrop.dk/images/P1_Erik%2520Pictures/2004/subsequent%2520crop%2520growth,%252007.07.04.jpg&amp;imgrefurl=http://www.intercrop.dk/Pictures.htm&amp;usg=__0NBeuPaI7FRcy0fxTyOkx38lBn0=&amp;h=1920&amp;w=2560&amp;sz=1074&amp;hl=EN&amp;start=8&amp;tbnid=1wYpl3u97J5osM:&amp;tbnh=113&amp;tbnw=150&amp;prev=/images?q=crop&amp;gbv=2&amp;hl=EN" TargetMode="External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com/imgres?imgurl=http://www.pittjug.org/b2b/pics/Plastic_Trash_Can__Dustbin__Garbage_Can__Waste_Bin__Garbage_Container.jpg&amp;imgrefurl=http://www.pittjug.org/b2b/led_displays/1/&amp;usg=__cbOCTmiZqpPflmcXGAtObqzbtus=&amp;h=359&amp;w=359&amp;sz=13&amp;hl=EN&amp;start=16&amp;tbnid=TafU2lMUw6sIwM:&amp;tbnh=121&amp;tbnw=121&amp;prev=/images?q=bin&amp;gbv=2&amp;hl=EN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m/imgres?imgurl=http://dolphinstudy.com/images/dorsal_fin_1.jpg&amp;imgrefurl=http://dolphinstudy.com/The_Study.html&amp;usg=__q6He0w7H6-Focd3R31V5i05udhM=&amp;h=350&amp;w=480&amp;sz=50&amp;hl=EN&amp;start=1&amp;tbnid=b3v0VBqCboDuLM:&amp;tbnh=94&amp;tbnw=129&amp;prev=/images?q=fin&amp;gbv=2&amp;hl=EN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google.com/imgres?imgurl=http://moberly.k12.mo.us/blogs/pashriver/files/2009/03/cotton_gin.jpg&amp;imgrefurl=http://moberly.k12.mo.us/blogs/pashriver/&amp;usg=__0qxERHIdqVS6GsrdkmYyC4O9WHo=&amp;h=301&amp;w=312&amp;sz=18&amp;hl=EN&amp;start=1&amp;tbnid=aOE8fwFcAalVaM:&amp;tbnh=113&amp;tbnw=117&amp;prev=/images?q=cotton+gin&amp;gbv=2&amp;ndsp=20&amp;hl=EN&amp;sa=N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images.google.com/imgres?imgurl=http://www.wired.com/images/article/full/2008/04/safety_pin_300px.jpg&amp;imgrefurl=http://www.wired.com/science/discoveries/news/2008/04/dayintech_0410&amp;usg=__Uki6kwn3pTRGtLI1LuoAMMqBkSg=&amp;h=300&amp;w=422&amp;sz=31&amp;hl=EN&amp;start=2&amp;tbnid=B9AlI7rmoJ05iM:&amp;tbnh=90&amp;tbnw=126&amp;prev=/images?q=pin&amp;gbv=2&amp;hl=EN" TargetMode="External"/><Relationship Id="rId9" Type="http://schemas.openxmlformats.org/officeDocument/2006/relationships/image" Target="../media/image19.jpeg"/><Relationship Id="rId10" Type="http://schemas.openxmlformats.org/officeDocument/2006/relationships/hyperlink" Target="http://images.google.com/imgres?imgurl=http://blogs.adobe.com/collabmethods/images/tin-can.jpg&amp;imgrefurl=http://blogs.adobe.com/collabmethods/afcs/&amp;usg=__EEndWSvQLOmxQvBkg3Nm8fJsvW0=&amp;h=280&amp;w=345&amp;sz=15&amp;hl=EN&amp;start=5&amp;tbnid=2jtrxu0NR0QatM:&amp;tbnh=97&amp;tbnw=120&amp;prev=/images?q=tin&amp;gbv=2&amp;hl=EN" TargetMode="External"/><Relationship Id="rId11" Type="http://schemas.openxmlformats.org/officeDocument/2006/relationships/image" Target="../media/image20.jpeg"/><Relationship Id="rId12" Type="http://schemas.openxmlformats.org/officeDocument/2006/relationships/hyperlink" Target="http://images.google.com/imgres?imgurl=http://i90.photobucket.com/albums/k257/jkane66/shin.jpg&amp;imgrefurl=http://runningintooblivion.wordpress.com/2007/10/02/dealing-with-injuries-shin-splints/&amp;usg=__8MDKOQghuoouxq4dE7rdbsYeenQ=&amp;h=551&amp;w=325&amp;sz=63&amp;hl=EN&amp;start=9&amp;tbnid=woo9ux_BCcjoOM:&amp;tbnh=133&amp;tbnw=78&amp;prev=/images?q=shin&amp;gbv=2&amp;ndsp=20&amp;hl=EN&amp;sa=N" TargetMode="External"/><Relationship Id="rId13" Type="http://schemas.openxmlformats.org/officeDocument/2006/relationships/image" Target="../media/image21.jpeg"/><Relationship Id="rId14" Type="http://schemas.openxmlformats.org/officeDocument/2006/relationships/hyperlink" Target="http://images.google.com/imgres?imgurl=http://www.organicnutrition.co.uk/weight-loss/chin2.jpg&amp;imgrefurl=http://www.organicnutrition.co.uk/weight-loss/chin.htm&amp;usg=__tc0nFruxCEMwBoAYqokyTfryAM8=&amp;h=309&amp;w=504&amp;sz=16&amp;hl=EN&amp;start=58&amp;tbnid=diZZBqcbcOv50M:&amp;tbnh=80&amp;tbnw=130&amp;prev=/images?q=chin&amp;gbv=2&amp;ndsp=20&amp;hl=EN&amp;sa=N&amp;start=40" TargetMode="External"/><Relationship Id="rId15" Type="http://schemas.openxmlformats.org/officeDocument/2006/relationships/image" Target="../media/image22.jpeg"/><Relationship Id="rId16" Type="http://schemas.openxmlformats.org/officeDocument/2006/relationships/hyperlink" Target="http://images.google.com/imgres?imgurl=http://williamcalvin.com/bookshelf/img/Bonobo%252011yo%2520male%2520Keke%2520&amp;%25202yo%2520female%2520Bokela%2520grin%2520Twycross%2520727a.jpg&amp;imgrefurl=http://williamcalvin.com/bookshelf/Twycross%2520Zoo%2520directions.htm&amp;usg=__v0WHTKErkZxb6Q9idDjljkakfr0=&amp;h=351&amp;w=300&amp;sz=105&amp;hl=EN&amp;start=13&amp;tbnid=0i-yESYIH9ZY4M:&amp;tbnh=120&amp;tbnw=103&amp;prev=/images?q=grin&amp;gbv=2&amp;hl=EN" TargetMode="External"/><Relationship Id="rId17" Type="http://schemas.openxmlformats.org/officeDocument/2006/relationships/image" Target="../media/image23.jpeg"/><Relationship Id="rId18" Type="http://schemas.openxmlformats.org/officeDocument/2006/relationships/hyperlink" Target="http://images.google.com/imgres?imgurl=http://www.nlm.nih.gov/MEDLINEPLUS/ency/images/ency/fullsize/19679.jpg&amp;imgrefurl=http://www.nlm.nih.gov/MEDLINEPLUS/ency/imagepages/19679.htm&amp;usg=__zIfK3Z7yrQUn1qOf-2bNHXLcJ4o=&amp;h=320&amp;w=400&amp;sz=31&amp;hl=EN&amp;start=5&amp;tbnid=Uy0fOUciL6MllM:&amp;tbnh=99&amp;tbnw=124&amp;prev=/images?q=skin&amp;gbv=2&amp;hl=EN" TargetMode="External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Strongest%20One/jigword2.html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8.png"/><Relationship Id="rId3" Type="http://schemas.openxmlformats.org/officeDocument/2006/relationships/hyperlink" Target="http://images.google.com/imgres?imgurl=http://mainemilitarymuseum.org/images/Smithsonian%25202.jpg&amp;imgrefurl=http://mainemilitarymuseum.org/museum.htm&amp;usg=__hsFhkL6d2PYdNFdBQocOx7f-eYc=&amp;h=816&amp;w=1229&amp;sz=346&amp;hl=EN&amp;start=7&amp;tbnid=1b-A-6cTFoPl1M:&amp;tbnh=100&amp;tbnw=150&amp;prev=/images?q=smithsonian+exhibits&amp;gbv=2&amp;hl=EN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google.com/imgres?imgurl=http://lh3.ggpht.com/_kP15EMzx54A/R17CZ3Ul9VI/AAAAAAAAAjQ/CT6DppJIKnU/IMG_0629.jpg&amp;imgrefurl=http://picasaweb.google.com/lh/photo/6_dCp3UGSoAl-hbG00znsw&amp;usg=__nLGaqaRK7N4xzg9p0gKFV1unZ5M=&amp;h=1200&amp;w=1600&amp;sz=16&amp;hl=EN&amp;start=20&amp;tbnid=RUyx-jjRMBT9YM:&amp;tbnh=113&amp;tbnw=150&amp;prev=/images?q=smithsonian+exhibits&amp;gbv=2&amp;hl=EN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google.com/imgres?imgurl=http://image62.webshots.com/62/7/69/85/391576985RuMUYj_fs.jpg&amp;imgrefurl=http://travel.webshots.com/photo/1391576985073897170RuMUYj&amp;usg=__c0Po-B8AKWKcshqfLjAWRs8kUpA=&amp;h=1704&amp;w=2272&amp;sz=431&amp;hl=EN&amp;start=26&amp;tbnid=V8lA7Kg-jjEwOM:&amp;tbnh=112&amp;tbnw=150&amp;prev=/images?q=smithsonian+exhibits&amp;start=20&amp;gbv=2&amp;ndsp=20&amp;hl=EN&amp;sa=N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images.google.com/imgres?imgurl=http://www.visitingdc.com/images/smithsonian-dinosaur.jpg&amp;imgrefurl=http://www.visitingdc.com/museum/smithsonian-dinosaur.htm&amp;usg=__GEJuE6eixU1jKhqQM7uUqiXrhL0=&amp;h=377&amp;w=620&amp;sz=109&amp;hl=EN&amp;start=36&amp;tbnid=tJZjy7avaWEJkM:&amp;tbnh=83&amp;tbnw=136&amp;prev=/images?q=smithsonian+exhibits&amp;start=20&amp;gbv=2&amp;ndsp=20&amp;hl=EN&amp;sa=N" TargetMode="External"/><Relationship Id="rId10" Type="http://schemas.openxmlformats.org/officeDocument/2006/relationships/image" Target="../media/image29.jpeg"/><Relationship Id="rId11" Type="http://schemas.openxmlformats.org/officeDocument/2006/relationships/hyperlink" Target="http://images.google.com/imgres?imgurl=http://www.postalmuseum.si.edu/images/exhibits/2_15_jrduckstamp-2005-lg.jpg&amp;imgrefurl=http://www.postalmuseum.si.edu/exhibits/2_15_jrduckstamp-2005.html&amp;usg=__yoJCNh3GYAJ48DIYjIproLajLDk=&amp;h=359&amp;w=523&amp;sz=74&amp;hl=EN&amp;start=62&amp;tbnid=fjRlTi08h2mwLM:&amp;tbnh=90&amp;tbnw=131&amp;prev=/images?q=smithsonian+exhibits&amp;start=60&amp;gbv=2&amp;ndsp=20&amp;hl=EN&amp;sa=N" TargetMode="External"/><Relationship Id="rId12" Type="http://schemas.openxmlformats.org/officeDocument/2006/relationships/image" Target="../media/image30.jpeg"/><Relationship Id="rId13" Type="http://schemas.openxmlformats.org/officeDocument/2006/relationships/hyperlink" Target="http://images.google.com/imgres?imgurl=http://gnsi.science-art.com/GNSIDC/reports/2002Jan/Exhibit_b.jpg&amp;imgrefurl=http://gnsi.science-art.com/GNSIDC/reports/2002Jan/jan2002pt2.html&amp;usg=__PaGZbWhQ7aOovRU6ZoaU2tdavGM=&amp;h=432&amp;w=576&amp;sz=56&amp;hl=EN&amp;start=76&amp;tbnid=GjVgPA5tkgjnbM:&amp;tbnh=101&amp;tbnw=134&amp;prev=/images?q=smithsonian+exhibits&amp;start=60&amp;gbv=2&amp;ndsp=20&amp;hl=EN&amp;sa=N" TargetMode="External"/><Relationship Id="rId14" Type="http://schemas.openxmlformats.org/officeDocument/2006/relationships/image" Target="../media/image31.jpeg"/><Relationship Id="rId15" Type="http://schemas.openxmlformats.org/officeDocument/2006/relationships/hyperlink" Target="http://images.google.com/imgres?imgurl=http://lh3.ggpht.com/_1QZCA3zFRVY/RrkGyH85y5I/AAAAAAAAAOM/1ctxPgJR7L8/DSC_0443.JPG&amp;imgrefurl=http://picasaweb.google.com/lh/photo/Uo1pkR7uTGhJTWp1ykvcyg&amp;usg=__YP7pjKT5k5J-JZz5jed3TjrI_IQ=&amp;h=1064&amp;w=1600&amp;sz=11&amp;hl=EN&amp;start=98&amp;tbnid=lDI38UkC0ys4-M:&amp;tbnh=100&amp;tbnw=150&amp;prev=/images?q=smithsonian+exhibits&amp;start=80&amp;gbv=2&amp;ndsp=20&amp;hl=EN&amp;sa=N" TargetMode="External"/><Relationship Id="rId16" Type="http://schemas.openxmlformats.org/officeDocument/2006/relationships/image" Target="../media/image32.jpeg"/><Relationship Id="rId17" Type="http://schemas.openxmlformats.org/officeDocument/2006/relationships/hyperlink" Target="http://images.google.com/imgres?imgurl=http://cache.daylife.com/imageserve/06LQ2Vl5LB43m/610x.jpg&amp;imgrefurl=http://www.daylife.com/photo/06LQ2Vl5LB43m&amp;usg=__Srqg66oLGYE6ONQSItSyiH6Uz98=&amp;h=398&amp;w=610&amp;sz=93&amp;hl=EN&amp;start=176&amp;tbnid=J5f1qEIkqNY53M:&amp;tbnh=89&amp;tbnw=136&amp;prev=/images?q=smithsonian+exhibits&amp;start=160&amp;gbv=2&amp;ndsp=20&amp;hl=EN&amp;sa=N" TargetMode="External"/><Relationship Id="rId18" Type="http://schemas.openxmlformats.org/officeDocument/2006/relationships/image" Target="../media/image33.jpeg"/><Relationship Id="rId19" Type="http://schemas.openxmlformats.org/officeDocument/2006/relationships/hyperlink" Target="http://images.google.com/imgres?imgurl=http://www.riehlife.com/wp-content/uploads/2007/12/eric-long-smithsonian-flag-_95.gif&amp;imgrefurl=http://www.riehlife.com/2007/12/07/theres-a-star-spangled-banner-waving-somewhere-song-historical-notes-and-reflection-by-my-father-a-wwii-veteran/&amp;usg=__WKrgg7_D35MO_msKMYWzLS_uHiI=&amp;h=275&amp;w=261&amp;sz=53&amp;hl=EN&amp;start=206&amp;tbnid=ddxb-aHL1LtaVM:&amp;tbnh=114&amp;tbnw=108&amp;prev=/images?q=smithsonian+exhibits&amp;start=200&amp;gbv=2&amp;ndsp=20&amp;hl=EN&amp;sa=N" TargetMode="External"/><Relationship Id="rId20" Type="http://schemas.openxmlformats.org/officeDocument/2006/relationships/image" Target="../media/image34.jpeg"/><Relationship Id="rId21" Type="http://schemas.openxmlformats.org/officeDocument/2006/relationships/hyperlink" Target="http://images.google.com/imgres?imgurl=http://seattletimes.nwsource.com/ABPub/2007/11/19/2004023395.jpg&amp;imgrefurl=http://seattletimes.nwsource.com/html/travel/2004025334_webmuseumair20.html&amp;usg=__Xo6lQfSRUe0dw6bgGNOEwyrU3_Q=&amp;h=197&amp;w=296&amp;sz=17&amp;hl=EN&amp;start=235&amp;tbnid=B9Pp8UxuhrEl_M:&amp;tbnh=77&amp;tbnw=116&amp;prev=/images?q=smithsonian+exhibits&amp;start=220&amp;gbv=2&amp;ndsp=20&amp;hl=EN&amp;sa=N" TargetMode="External"/><Relationship Id="rId22" Type="http://schemas.openxmlformats.org/officeDocument/2006/relationships/image" Target="../media/image35.jpeg"/><Relationship Id="rId23" Type="http://schemas.openxmlformats.org/officeDocument/2006/relationships/hyperlink" Target="http://images.google.com/imgres?imgurl=http://www.chicago-l.org/museums/smithsonian/Smithsonian-CTA_bus01.jpg&amp;imgrefurl=http://www.chicago-l.org/museums/smithsonian.html&amp;usg=__aRYfxIhRNQov6WPPmaXjWsihMZs=&amp;h=675&amp;w=900&amp;sz=133&amp;hl=EN&amp;start=245&amp;tbnid=tymx4r5zhFM96M:&amp;tbnh=109&amp;tbnw=146&amp;prev=/images?q=smithsonian+exhibits&amp;start=240&amp;gbv=2&amp;ndsp=20&amp;hl=EN&amp;sa=N" TargetMode="External"/><Relationship Id="rId24" Type="http://schemas.openxmlformats.org/officeDocument/2006/relationships/image" Target="../media/image36.jpeg"/><Relationship Id="rId25" Type="http://schemas.openxmlformats.org/officeDocument/2006/relationships/hyperlink" Target="http://images.google.com/imgres?imgurl=http://www.civicfest.org/images/exhibits/W_The-White-House_full.jpg&amp;imgrefurl=http://www.civicfest.org/exhibits.html&amp;usg=__5_s37k5CwcAfAtMlzTnJQozqHKQ=&amp;h=562&amp;w=640&amp;sz=115&amp;hl=EN&amp;start=263&amp;tbnid=FEifrq6MHN84tM:&amp;tbnh=120&amp;tbnw=137&amp;prev=/images?q=smithsonian+exhibits&amp;start=260&amp;gbv=2&amp;ndsp=20&amp;hl=EN&amp;sa=N" TargetMode="External"/><Relationship Id="rId26" Type="http://schemas.openxmlformats.org/officeDocument/2006/relationships/image" Target="../media/image37.jpeg"/><Relationship Id="rId2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Strongest_One.htm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2.xml"/><Relationship Id="rId3" Type="http://schemas.openxmlformats.org/officeDocument/2006/relationships/slide" Target="slide100.xml"/><Relationship Id="rId4" Type="http://schemas.openxmlformats.org/officeDocument/2006/relationships/slide" Target="slide143.xml"/><Relationship Id="rId5" Type="http://schemas.openxmlformats.org/officeDocument/2006/relationships/slide" Target="slide165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kewoodconferences.com/direct/dbimage/10220444/FE_Series_Floor_Powerful_Electric_Fan.jpg&amp;imgrefurl=http://www.lakewoodconferences.com/catalog/17/791/draught_fan.html&amp;usg=__8oeF840P7bDwXRslH62d27ETfGw=&amp;h=360&amp;w=360&amp;sz=29&amp;hl=EN&amp;start=1&amp;tbnid=8IU6o787gcb12M:&amp;tbnh=121&amp;tbnw=121&amp;prev=/images?q=fan&amp;gbv=2&amp;hl=E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s.google.com/imgres?imgurl=http://www.gadgetvenue.com/wp-content/uploads/2008/11/digital-thermoter-pan.jpg&amp;imgrefurl=http://www.gadgetvenue.com/digital-thermometer-pan-11051037/&amp;usg=__wHn_KOqOMRjgFL2C-Ij2VDJ7Tqs=&amp;h=326&amp;w=300&amp;sz=34&amp;hl=EN&amp;start=5&amp;tbnid=SqWU4ciDoP23OM:&amp;tbnh=118&amp;tbnw=109&amp;prev=/images?q=pan&amp;gbv=2&amp;hl=EN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ages.google.com/imgres?imgurl=http://www.bourgetbros.com/site-admin/images_lotus/02122008-1232041_Java%2520Sticks%2520-%2520Tan%2520Marble.jpg&amp;imgrefurl=http://www.bourgetbros.com/category_products.php?idcat=683&amp;usg=__DmB31l4tWjz-3DXYtXZXGKZFKbg=&amp;h=450&amp;w=600&amp;sz=114&amp;hl=EN&amp;start=32&amp;tbnid=5k_dhaMxkMIJOM:&amp;tbnh=101&amp;tbnw=135&amp;prev=/images?q=tan&amp;gbv=2&amp;ndsp=20&amp;hl=EN&amp;sa=N&amp;start=20" TargetMode="External"/><Relationship Id="rId6" Type="http://schemas.openxmlformats.org/officeDocument/2006/relationships/image" Target="../media/image41.jpeg"/><Relationship Id="rId7" Type="http://schemas.openxmlformats.org/officeDocument/2006/relationships/hyperlink" Target="http://images.google.com/imgres?imgurl=http://1.bp.blogspot.com/_KM2n7lFVl5I/Rtoy8CwECQI/AAAAAAAABM0/vDHfV_htYs4/s640/VW+Van.JPG&amp;imgrefurl=http://nyc2dailyphoto.blogspot.com/2007/09/groovy-for-60s.html&amp;usg=__GF0QLxLS6vk6FBFAtZIGWwl-aLY=&amp;h=480&amp;w=640&amp;sz=93&amp;hl=EN&amp;start=14&amp;tbnid=kqXz-yaLNCxy-M:&amp;tbnh=103&amp;tbnw=137&amp;prev=/images?q=vw+van&amp;gbv=2&amp;hl=EN" TargetMode="External"/><Relationship Id="rId8" Type="http://schemas.openxmlformats.org/officeDocument/2006/relationships/image" Target="../media/image42.jpeg"/><Relationship Id="rId9" Type="http://schemas.openxmlformats.org/officeDocument/2006/relationships/hyperlink" Target="http://images.google.com/imgres?imgurl=http://www.ericgiguere.com/images/all-bran-front-400-619.jpg&amp;imgrefurl=http://www.ericgiguere.com/essays/cereal-box-celebrity-front.html&amp;usg=__-gODroiU7ODjYYcXil5NNFfE1gs=&amp;h=619&amp;w=400&amp;sz=67&amp;hl=EN&amp;start=6&amp;tbnid=zMGuMck1Ewa5wM:&amp;tbnh=136&amp;tbnw=88&amp;prev=/images?q=bran&amp;gbv=2&amp;hl=EN" TargetMode="External"/><Relationship Id="rId10" Type="http://schemas.openxmlformats.org/officeDocument/2006/relationships/image" Target="../media/image43.jpeg"/><Relationship Id="rId11" Type="http://schemas.openxmlformats.org/officeDocument/2006/relationships/hyperlink" Target="http://images.google.com/imgres?imgurl=http://jnch.nic.in/CT-Scan.jpg&amp;imgrefurl=http://jnch.nic.in/infra.htm&amp;usg=__suTSlDDT6DZU-zE-mdTyF6fnxBc=&amp;h=605&amp;w=901&amp;sz=54&amp;hl=EN&amp;start=19&amp;tbnid=fY-O8OH8T9VcVM:&amp;tbnh=98&amp;tbnw=146&amp;prev=/images?q=scan&amp;gbv=2&amp;hl=EN" TargetMode="External"/><Relationship Id="rId12" Type="http://schemas.openxmlformats.org/officeDocument/2006/relationships/image" Target="../media/image44.jpeg"/><Relationship Id="rId13" Type="http://schemas.openxmlformats.org/officeDocument/2006/relationships/hyperlink" Target="http://images.google.com/imgres?imgurl=http://www.mta.info/mta/news/releases/images/Harlem%2520Lift%2520Span.Lift%2520action.jpg&amp;imgrefurl=http://www.mta.info/mta/news/releases/?en=080617-BT&amp;usg=__MkV4nqoQYYYqRBP4BEQXPU6D8_E=&amp;h=691&amp;w=922&amp;sz=196&amp;hl=EN&amp;start=11&amp;tbnid=ikNrbFsH8F1LdM:&amp;tbnh=110&amp;tbnw=147&amp;prev=/images?q=span&amp;gbv=2&amp;hl=EN" TargetMode="External"/><Relationship Id="rId14" Type="http://schemas.openxmlformats.org/officeDocument/2006/relationships/image" Target="../media/image45.jpeg"/><Relationship Id="rId1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Strongest_One.htm" TargetMode="External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When we are searching for answers, whom can we ask?</a:t>
            </a:r>
            <a:br>
              <a:rPr sz="3200"/>
            </a:br>
            <a:r>
              <a:rPr b="1" i="1" lang="en-US" sz="2400" spc="-1" strike="noStrike">
                <a:solidFill>
                  <a:srgbClr val="ff6633"/>
                </a:solidFill>
                <a:latin typeface="Arial"/>
              </a:rPr>
              <a:t>Click to listen to story.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89" name="Picture 12" descr="tocstrongestone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5480" y="1828800"/>
            <a:ext cx="346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76520" y="1981080"/>
          <a:ext cx="6095880" cy="3581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you wonder about some things?  Do you know why your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ey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metimes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at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a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ar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y?  When we are searching for answers, whom can we ask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9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600200" y="2209680"/>
          <a:ext cx="6095880" cy="2590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Did that really happen?  Or did Ollie just think it did?  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Or did Ollie just think it did?  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 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again.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533520" y="2209680"/>
          <a:ext cx="8153280" cy="320040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again.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what you think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&amp; 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ected en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Exploring Space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82880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geniu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 – 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is very, very smart can be called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i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it would take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i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gure out this math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i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es up with good solutions to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atisfaction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 – is – fac - 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eel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are pleased and contented with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m got great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winning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ave m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o so well on the spelling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All Alone in Dinosaur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Exploring Space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_______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___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lays the piano, and I want to ____ how to play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lays the piano, and I want to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to play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 bed because I am ___ slee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lays the piano, and I want to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to play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 bed because I am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ee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delicat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 – i - 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in and easily broken. 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he opposite of stur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m says to be very careful with that old vase because it’s so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not to step on 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owers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library as ____ as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library a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s a fun day even _____ it is 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library a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s a fun day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is 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best</a:t>
            </a:r>
            <a:br>
              <a:rPr sz="4400"/>
            </a:br>
            <a:r>
              <a:rPr b="0" lang="en-US" sz="1600" spc="-1" strike="noStrike" u="sng">
                <a:solidFill>
                  <a:srgbClr val="ff6633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523880" y="1371600"/>
          <a:ext cx="6359760" cy="40766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qu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bes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Jester%252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6440" y="3581280"/>
            <a:ext cx="1000080" cy="1524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7" descr="nest00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1447920"/>
            <a:ext cx="2228760" cy="1679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radpes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1447920"/>
            <a:ext cx="2238480" cy="1674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1" descr="ladies_vest_powderblu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3581280"/>
            <a:ext cx="1121040" cy="16002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3" descr="oak-hope-chest-ki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1447920"/>
            <a:ext cx="1596960" cy="1676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5" descr="Bolton-Wanderers%403"/>
          <p:cNvPicPr/>
          <p:nvPr/>
        </p:nvPicPr>
        <p:blipFill>
          <a:blip r:embed="rId11"/>
          <a:stretch/>
        </p:blipFill>
        <p:spPr>
          <a:xfrm>
            <a:off x="3733920" y="35812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16"/>
          <p:cNvSpPr/>
          <p:nvPr/>
        </p:nvSpPr>
        <p:spPr>
          <a:xfrm>
            <a:off x="1041840" y="3124080"/>
            <a:ext cx="10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4154760" y="3124080"/>
            <a:ext cx="9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6975000" y="3124080"/>
            <a:ext cx="9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1447920" y="51055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0"/>
          <p:cNvSpPr/>
          <p:nvPr/>
        </p:nvSpPr>
        <p:spPr>
          <a:xfrm>
            <a:off x="4087080" y="53341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6672600" y="5181480"/>
            <a:ext cx="8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pelling Words: Consonant Digaphs</a:t>
            </a: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Which spelling word rhymes with: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76160" y="1294920"/>
            <a:ext cx="2819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p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w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wh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ynonym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ords mean almost the same thing.  These words are called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just read “The Strongest One.”  What are some synonyms for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dnesday’s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 an ant bite ic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Does an ant bite itc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, it stings to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Oh, it stings to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ntence that shows surprise or strong feelings.  It begins with a capital letter and ends with an exclamation m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inquir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 - qu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qu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o ask questions or to try to find out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dad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qui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the soccer sche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qui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ther I had done all my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balls and gl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Get the balls and glo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have a good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Let’s have a good g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a threw the ball to Ke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na threw the ball to Kev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it him on the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It hit him on the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hat hu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and In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they will hear more about someone searching for answers in a story called “Can Hens Give Milk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synonyms in sentences about being the strongest on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nimals eat the strangest things!  Today we will read about the anteater.  Anteaters search for food in an unusual way.  How do you think anteaters search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nimals eat the </a:t>
                      </a:r>
                      <a:r>
                        <a:rPr b="0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trange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ings!  Today we will read about the anteater.  Anteaters search for food in an unusual way.  How do you think anteaters search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nimals eat the strangest things!  Today we will read about the anteater.  Anteaters search for food in an </a:t>
                      </a:r>
                      <a:r>
                        <a:rPr b="0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unusu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ay.  How do you think anteaters search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nd answ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Can Hens Give Mil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entence Read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 Mitch catch that fish in the water by the 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 get sleepy I stretch and then shut m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o see if these buns are fresh and w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entence Read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by the shrubs had thin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ke up early and then I brush m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rash bin was full of cans we had to wash and cru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turd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 - 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trong and sol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tand on that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nch to reach the cup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ee in the park was not affected by the big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pell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o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ra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wo or three letters that make one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drink</a:t>
            </a:r>
            <a:br>
              <a:rPr sz="4400"/>
            </a:br>
            <a:r>
              <a:rPr b="0" lang="en-US" sz="1600" spc="-1" strike="noStrike">
                <a:solidFill>
                  <a:srgbClr val="996600"/>
                </a:solidFill>
                <a:latin typeface="Verdana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523880" y="1371600"/>
          <a:ext cx="6359760" cy="40766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drink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Norwegian_Korean_Standard_Link_Chain"/>
          <p:cNvPicPr/>
          <p:nvPr/>
        </p:nvPicPr>
        <p:blipFill>
          <a:blip r:embed="rId1"/>
          <a:stretch/>
        </p:blipFill>
        <p:spPr>
          <a:xfrm>
            <a:off x="685800" y="1447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mink_closeup"/>
          <p:cNvPicPr/>
          <p:nvPr/>
        </p:nvPicPr>
        <p:blipFill>
          <a:blip r:embed="rId2"/>
          <a:stretch/>
        </p:blipFill>
        <p:spPr>
          <a:xfrm>
            <a:off x="3048120" y="1447920"/>
            <a:ext cx="1276200" cy="17524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Rink%2520on%2520the%2520River3"/>
          <p:cNvPicPr/>
          <p:nvPr/>
        </p:nvPicPr>
        <p:blipFill>
          <a:blip r:embed="rId3"/>
          <a:stretch/>
        </p:blipFill>
        <p:spPr>
          <a:xfrm>
            <a:off x="4724280" y="3809880"/>
            <a:ext cx="2210040" cy="1654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oval_sink"/>
          <p:cNvPicPr/>
          <p:nvPr/>
        </p:nvPicPr>
        <p:blipFill>
          <a:blip r:embed="rId4"/>
          <a:stretch/>
        </p:blipFill>
        <p:spPr>
          <a:xfrm>
            <a:off x="6867360" y="14479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3" descr="Wink"/>
          <p:cNvPicPr/>
          <p:nvPr/>
        </p:nvPicPr>
        <p:blipFill>
          <a:blip r:embed="rId5"/>
          <a:stretch/>
        </p:blipFill>
        <p:spPr>
          <a:xfrm>
            <a:off x="685800" y="3733920"/>
            <a:ext cx="2286000" cy="1719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5" descr="20080819194232!Brink_of_the_falls,_Niagara_Falls"/>
          <p:cNvPicPr/>
          <p:nvPr/>
        </p:nvPicPr>
        <p:blipFill>
          <a:blip r:embed="rId6"/>
          <a:stretch/>
        </p:blipFill>
        <p:spPr>
          <a:xfrm>
            <a:off x="4876920" y="1447920"/>
            <a:ext cx="1415880" cy="17524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16"/>
          <p:cNvSpPr/>
          <p:nvPr/>
        </p:nvSpPr>
        <p:spPr>
          <a:xfrm>
            <a:off x="1325520" y="320040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3084120" y="31240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5145480" y="3200400"/>
            <a:ext cx="10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9"/>
          <p:cNvSpPr/>
          <p:nvPr/>
        </p:nvSpPr>
        <p:spPr>
          <a:xfrm>
            <a:off x="7125840" y="3276720"/>
            <a:ext cx="9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0"/>
          <p:cNvSpPr/>
          <p:nvPr/>
        </p:nvSpPr>
        <p:spPr>
          <a:xfrm>
            <a:off x="3091320" y="4419720"/>
            <a:ext cx="9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7040520" y="44197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Anteaters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Page 152 - 155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use this story to learn how to look answers to an AR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questions and answer ch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the story to find the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your answer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Student Pages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3" descr="Student Pages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ursday’s Fix-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ke me to see the antea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9900"/>
                </a:solidFill>
                <a:latin typeface="Arial"/>
              </a:rPr>
              <a:t>Take me to see the anteat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has such a strange sh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9900"/>
                </a:solidFill>
                <a:latin typeface="Arial"/>
              </a:rPr>
              <a:t>It has such a strange sha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Close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amation is a sentence that shows surprise or strong feelings.  It begins with a capital letter and ends with an exclama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 love chocolate cak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Sing with Me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oing to listen to a song about how to find answers to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In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lis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Where to Inquire"/>
          <p:cNvPicPr/>
          <p:nvPr/>
        </p:nvPicPr>
        <p:blipFill>
          <a:blip r:embed="rId1"/>
          <a:srcRect l="2570" t="0" r="1274" b="8857"/>
          <a:stretch/>
        </p:blipFill>
        <p:spPr>
          <a:xfrm>
            <a:off x="4495680" y="304920"/>
            <a:ext cx="4291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so b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Be care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each sentence.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at ant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Look at that ante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, he looks so st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Oh, he looks so stran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him some 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nd him some 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w, see how long his tongu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wow, see how long his tongue 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peaking and Listen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reasons for asking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sk or answer a question, you should always be pol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pol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person spe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eard a story about two foolish people who thought hens could give milk.  Tomorrow you will hear about Shlomo and Rivka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having fun in 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rdy tree hous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Fri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read about asking questions.  What did we find out about whom we can ask when we are looking for answers?  Where can we inquir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 ch, tch, sh, th, w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bush has thick bra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bu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h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branch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 gave Beth fish and c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 gave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Beth fis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 ch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things belong to my friend Sh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hose th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ong to my friend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Sh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dog uses its mouth and teeth to catch the sti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dog uses its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m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ee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i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200400" y="1676520"/>
          <a:ext cx="3124080" cy="4017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0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g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reading these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we’ll learn about words that begin and end with two or three consonants that stand for a single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____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____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_____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ress is _____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ress i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nd I can work _____ on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ress i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nd I can work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iday’s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ok for ants near tre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Look for ants near tre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tch out, they b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Watch out, they bit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Map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utline picture of a place as if it were taken from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map 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which symbol stands for places and things on the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compass r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l the directions on the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9880" y="3045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nant digraphs consist of unlike consonants that stand for a single sound that is different from each consonant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Users\Freida Lewis\Desktop\sound cards\Card 7.jpg"/>
          <p:cNvPicPr/>
          <p:nvPr/>
        </p:nvPicPr>
        <p:blipFill>
          <a:blip r:embed="rId1"/>
          <a:srcRect l="115" t="0" r="0" b="11366"/>
          <a:stretch/>
        </p:blipFill>
        <p:spPr>
          <a:xfrm>
            <a:off x="460440" y="304920"/>
            <a:ext cx="2963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Week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33"/>
                </a:solidFill>
                <a:latin typeface="Arial"/>
              </a:rPr>
              <a:t>Let’s Tal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33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Review Game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cabulary &amp; Amazing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lling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Frequenc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Potatoes (fill-in-the-bla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Fri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something delicate that becomes sturdy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TPlus Videos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Password Required)</a:t>
            </a: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457200" y="1828800"/>
          <a:ext cx="8305920" cy="365760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sop's Fables (13:00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to Picture Books: Books About Real Things (08:59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 Zoologist: Insects (11: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. Dad's PH3: Episode 10: Animal Architecture (14:45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bout Animals: Insects (12:00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e are now ready to take our story tests.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68360" y="1981080"/>
            <a:ext cx="618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webpa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pa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king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Reading Quiz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z # 9046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p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spelled with 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ord pitch, 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mall Group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6633"/>
                </a:solidFill>
                <a:uFillTx/>
                <a:latin typeface="Arial"/>
                <a:hlinkClick r:id="rId1"/>
              </a:rPr>
              <a:t>Tim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09880" y="304920"/>
            <a:ext cx="45720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nant digraphs consist of two unlike consonants that stand for a single sound that is different from either consonan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Content Placeholder 6" descr="card 32.jpg"/>
          <p:cNvPicPr/>
          <p:nvPr/>
        </p:nvPicPr>
        <p:blipFill>
          <a:blip r:embed="rId1"/>
          <a:srcRect l="0" t="0" r="0" b="15851"/>
          <a:stretch/>
        </p:blipFill>
        <p:spPr>
          <a:xfrm>
            <a:off x="380880" y="228600"/>
            <a:ext cx="3125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86200" y="2282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nant digraphs consist of two unlike consonants that stand for a single sound that is different from either consonan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Content Placeholder 6" descr="card 34.jpg"/>
          <p:cNvPicPr/>
          <p:nvPr/>
        </p:nvPicPr>
        <p:blipFill>
          <a:blip r:embed="rId1"/>
          <a:srcRect l="0" t="0" r="0" b="11111"/>
          <a:stretch/>
        </p:blipFill>
        <p:spPr>
          <a:xfrm>
            <a:off x="304920" y="304920"/>
            <a:ext cx="3308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6200" y="2282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s wh may b pronounced /hw/ or  /w/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6" descr="card 41.jpg"/>
          <p:cNvPicPr/>
          <p:nvPr/>
        </p:nvPicPr>
        <p:blipFill>
          <a:blip r:embed="rId1"/>
          <a:srcRect l="0" t="0" r="0" b="10849"/>
          <a:stretch/>
        </p:blipFill>
        <p:spPr>
          <a:xfrm>
            <a:off x="304920" y="304920"/>
            <a:ext cx="3405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har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the sound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therm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the sound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the sound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28800" y="12193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23920" y="114300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Verdana"/>
              </a:rPr>
              <a:t>Review Game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3124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7"/>
              </a:rPr>
              <a:t>Spelling City – vocabular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8"/>
              </a:rPr>
              <a:t>Spelling City – amazing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05160" y="990360"/>
            <a:ext cx="3733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4"/>
              </a:rPr>
              <a:t>Spelling 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ord Read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520" y="1371600"/>
            <a:ext cx="2590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57800" y="1371240"/>
            <a:ext cx="2286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stop</a:t>
            </a:r>
            <a:br>
              <a:rPr sz="4400"/>
            </a:br>
            <a:r>
              <a:rPr b="0" lang="en-US" sz="1600" spc="-1" strike="noStrike" u="sng">
                <a:solidFill>
                  <a:srgbClr val="ff6633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523880" y="1371600"/>
          <a:ext cx="6359760" cy="40892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stop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339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981080"/>
            <a:ext cx="96048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swing-dance-classes-lindy-hop-image-10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7400" y="1981080"/>
            <a:ext cx="1438200" cy="1600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HA01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00800" y="1981080"/>
            <a:ext cx="2057400" cy="171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ddf77a49fe560c6eb1177d9ae21dd80c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95280" y="4114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shop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05320" y="4114800"/>
            <a:ext cx="2133360" cy="1433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LeekChop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77120" y="4114800"/>
            <a:ext cx="1695240" cy="127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9" descr="subsequent%2520crop%2520growth,%25200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962520" y="1981080"/>
            <a:ext cx="2133360" cy="16066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0"/>
          <p:cNvSpPr/>
          <p:nvPr/>
        </p:nvSpPr>
        <p:spPr>
          <a:xfrm>
            <a:off x="794520" y="358128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2392560" y="35053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4534560" y="35812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967440" y="3657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1624320" y="54100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4083840" y="55627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6823440" y="53341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8120" y="1066680"/>
          <a:ext cx="3276360" cy="4614840"/>
        </p:xfrm>
        <a:graphic>
          <a:graphicData uri="http://schemas.openxmlformats.org/drawingml/2006/table">
            <a:tbl>
              <a:tblPr/>
              <a:tblGrid>
                <a:gridCol w="327636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c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qu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r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i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5"/>
          <p:cNvSpPr/>
          <p:nvPr/>
        </p:nvSpPr>
        <p:spPr>
          <a:xfrm>
            <a:off x="6324480" y="1447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into</a:t>
            </a:r>
            <a:br>
              <a:rPr sz="4400"/>
            </a:br>
            <a:r>
              <a:rPr b="0" lang="en-US" sz="1600" spc="-1" strike="noStrike" u="sng">
                <a:solidFill>
                  <a:srgbClr val="ff6633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23880" y="1371600"/>
          <a:ext cx="6359760" cy="40766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k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Verdana"/>
              </a:rPr>
              <a:t>Word Family Word – into</a:t>
            </a:r>
            <a:br>
              <a:rPr sz="4000"/>
            </a:b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Plastic_Trash_Can__Dustbin__Garbage_Can__Waste_Bin__Garbage_Contain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371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dorsal_fin_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66880" y="3581280"/>
            <a:ext cx="1828800" cy="1332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cotton_gi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1371600"/>
            <a:ext cx="1523880" cy="1471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safety_pin_300px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443720" y="1371600"/>
            <a:ext cx="1033560" cy="1447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tin-ca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2120" y="3581280"/>
            <a:ext cx="1600200" cy="1293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shi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14600" y="1371600"/>
            <a:ext cx="893880" cy="1523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8" descr="chin2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705720" y="3657600"/>
            <a:ext cx="1828800" cy="112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0" descr="Bonobo%252011yo%2520male%2520Keke%2520%26%25202yo%2520female%2520Bokela%2520grin%2520Twycross%2520727a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943600" y="1371600"/>
            <a:ext cx="130824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19679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724280" y="3581280"/>
            <a:ext cx="1676520" cy="13384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3"/>
          <p:cNvSpPr/>
          <p:nvPr/>
        </p:nvSpPr>
        <p:spPr>
          <a:xfrm>
            <a:off x="1092960" y="28954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2554920" y="28954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3742560" y="2895480"/>
            <a:ext cx="18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tton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6204240" y="289548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7646040" y="28195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851400" y="495288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n 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3222360" y="4952880"/>
            <a:ext cx="6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0"/>
          <p:cNvSpPr/>
          <p:nvPr/>
        </p:nvSpPr>
        <p:spPr>
          <a:xfrm>
            <a:off x="5144760" y="487692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1"/>
          <p:cNvSpPr/>
          <p:nvPr/>
        </p:nvSpPr>
        <p:spPr>
          <a:xfrm>
            <a:off x="7275600" y="487692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Let’s Talk About </a:t>
            </a:r>
            <a:br>
              <a:rPr sz="4000"/>
            </a:br>
            <a:r>
              <a:rPr b="1" lang="en-US" sz="4000" spc="-1" strike="noStrike">
                <a:solidFill>
                  <a:srgbClr val="ff6633"/>
                </a:solidFill>
                <a:latin typeface="Arial"/>
              </a:rPr>
              <a:t>Exploration!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Student Pages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Realism and Fantas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kinds of made-up stories—those that could really happen and those that could neve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realistic 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ls about something that could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fanta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ory about something that could not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readers look for clues that tell them whether a story could really happen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A N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Place to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day’s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you really believe that 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Do you really believe that stor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 animal can’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An animal can’t really talk</a:t>
            </a:r>
            <a:r>
              <a:rPr b="1" lang="en-US" sz="61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Pack your suit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shows surprise or strong feelings.  It begins with a capital letter and ends with an exclama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at a great trip this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 can’t wait to 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your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Bring your ca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jacket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Put your jacket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, I am so ex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Wow, I am so exci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819520" y="1143000"/>
          <a:ext cx="3504960" cy="4038480"/>
        </p:xfrm>
        <a:graphic>
          <a:graphicData uri="http://schemas.openxmlformats.org/drawingml/2006/table">
            <a:tbl>
              <a:tblPr/>
              <a:tblGrid>
                <a:gridCol w="350496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gerou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aw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5"/>
          <p:cNvSpPr/>
          <p:nvPr/>
        </p:nvSpPr>
        <p:spPr>
          <a:xfrm>
            <a:off x="6324480" y="1447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the class will read a fantasy about an ant that wants to know who is the strongest one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600200" y="2209680"/>
          <a:ext cx="6095880" cy="32133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things you would l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quire abou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 fantasy about an ant with a question.  Whom does the ant check with to find the answer?  What does he find out?  Why is the ant shock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 fantasy about an ant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i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question.  Whom does the ant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ec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to find the answer?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es he find out?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the ant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ock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and fix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word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Exploring Space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82880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33"/>
                </a:solidFill>
                <a:uFillTx/>
                <a:latin typeface="Arial"/>
                <a:hlinkClick r:id="rId1" action="ppaction://hlinksldjump"/>
              </a:rPr>
              <a:t>exhibi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 – hib -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hi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omething set up for you to look at in a place like a museum or z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ere amazed at the size of the dinosaur we saw in 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hi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vorit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hi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zoo is the monkey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exhibit</a:t>
            </a:r>
            <a:r>
              <a:rPr b="1" lang="en-US" sz="4000" spc="-1" strike="noStrike" u="sng">
                <a:solidFill>
                  <a:srgbClr val="ff6633"/>
                </a:solidFill>
                <a:uFillTx/>
                <a:latin typeface="Arial"/>
                <a:hlinkClick r:id="rId1" action="ppaction://hlinksldjump"/>
              </a:rPr>
              <a:t>_x000b_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(Smithsonian, Washington D.C.)</a:t>
            </a:r>
            <a:endParaRPr b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85800" y="1294920"/>
            <a:ext cx="7772400" cy="4343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7" descr="Smithsonian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428004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9" descr="IMG_062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29400" y="4284720"/>
            <a:ext cx="1809720" cy="1363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1" descr="391576985RuMUYj_f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4159080"/>
            <a:ext cx="1981080" cy="1479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" descr="smithsonian-dinosau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2819520"/>
            <a:ext cx="2057400" cy="1255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5" descr="2_15_jrduckstamp-2005-l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129528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7" descr="Exhibit_b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19520" y="1295280"/>
            <a:ext cx="2133360" cy="1608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9" descr="DSC_0443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77120" y="1295280"/>
            <a:ext cx="1962000" cy="1308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1" descr="610x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95480" y="2971800"/>
            <a:ext cx="1828800" cy="1197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3" descr="eric-long-smithsonian-flag-_95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029200" y="1295280"/>
            <a:ext cx="1300320" cy="1600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5" descr="2004023395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477120" y="2743200"/>
            <a:ext cx="2019240" cy="1339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7" descr="Smithsonian-CTA_bus01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876920" y="4419720"/>
            <a:ext cx="1600200" cy="1193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9" descr="W_The-White-House_full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876920" y="2971800"/>
            <a:ext cx="15238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resis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 - s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s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hing, you work against it because you don’t wa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n’t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s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ughing out loud at the cl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healthy, your body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si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tting s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tun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are shocked and very surpr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I found out my favorite teacher was lea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ister wa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he won the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14600" y="1066680"/>
          <a:ext cx="4267080" cy="461484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ge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c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39"/>
          <p:cNvSpPr/>
          <p:nvPr/>
        </p:nvSpPr>
        <p:spPr>
          <a:xfrm>
            <a:off x="6324480" y="1447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A N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Place to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read this word because you know how to read words with consonant digraph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ound do the lette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 for in this w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come to a new word, look at the word parts from left to right and think about the consonant digraph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the sounds in the word to yourself and then read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br>
              <a:rPr sz="4000"/>
            </a:b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 two or three consonants that stand for a single sound</a:t>
            </a:r>
            <a:endParaRPr b="1" lang="en-US" sz="2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chi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h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th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c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t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wh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cl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Phonics Song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listen to our poem, find words with a consonant di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an We Tu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lis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1640" y="533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Phonics Songs and Rhymes Chart 5"/>
          <p:cNvPicPr/>
          <p:nvPr/>
        </p:nvPicPr>
        <p:blipFill>
          <a:blip r:embed="rId1"/>
          <a:srcRect l="0" t="0" r="0" b="9414"/>
          <a:stretch/>
        </p:blipFill>
        <p:spPr>
          <a:xfrm>
            <a:off x="4611600" y="228600"/>
            <a:ext cx="4246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Find the consonant digraphs in “Where Can We Turn?”</a:t>
            </a:r>
            <a:endParaRPr b="1" lang="en-US" sz="2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0" y="16765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than</a:t>
            </a:r>
            <a:br>
              <a:rPr sz="4400"/>
            </a:br>
            <a:r>
              <a:rPr b="0" lang="en-US" sz="1600" spc="-1" strike="noStrike" u="sng">
                <a:solidFill>
                  <a:srgbClr val="ff6633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523880" y="1371600"/>
          <a:ext cx="6359760" cy="44672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8880" y="990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Big Question: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When we are searching for answers, </a:t>
            </a:r>
            <a:br>
              <a:rPr sz="2800"/>
            </a:b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whom can we ask?</a:t>
            </a:r>
            <a:endParaRPr b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00040" y="2666880"/>
            <a:ext cx="7093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than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FE_Series_Floor_Powerful_Electric_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523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digital-thermoter-p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1523880"/>
            <a:ext cx="1336680" cy="1447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02122008-1232041_Java%2520Sticks%2520-%2520Tan%2520Marb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1523880"/>
            <a:ext cx="1981440" cy="1482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VW%2BVa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14400" y="3733920"/>
            <a:ext cx="1914480" cy="1439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all-bran-front-400-61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96200" y="1523880"/>
            <a:ext cx="1035000" cy="1600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CT-Sca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05320" y="3657600"/>
            <a:ext cx="2286000" cy="1535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7" descr="Harlem%2520Lift%2520Span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00800" y="3733920"/>
            <a:ext cx="2009880" cy="15033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8"/>
          <p:cNvSpPr/>
          <p:nvPr/>
        </p:nvSpPr>
        <p:spPr>
          <a:xfrm>
            <a:off x="1168560" y="3048120"/>
            <a:ext cx="7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3299400" y="2971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592240" y="297180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7503120" y="3124080"/>
            <a:ext cx="9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2003400" y="5402160"/>
            <a:ext cx="1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3892320" y="5181480"/>
            <a:ext cx="15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t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1404000" y="5181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7054920" y="525780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ill you do that ma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you do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m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sh I could chase a wha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could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c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them to pick a bunch from the p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ick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bun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p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Realism and Fantas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kinds of made-up stories—those that could really happen and those that could neve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realistic 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ls about something that could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fanta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ory about something that could not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readers look for clues that tell them whether a story could really happen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Monitor and Fix Up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be better readers by thinking about whether or not you understand what you read as you rea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attention to the illustrations (pictures) and to which character is talking are two ways you can help yourself understand what you are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514600" y="1066680"/>
          <a:ext cx="4267080" cy="461484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ge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c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Rectangle 9"/>
          <p:cNvSpPr/>
          <p:nvPr/>
        </p:nvSpPr>
        <p:spPr>
          <a:xfrm>
            <a:off x="6324480" y="1447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High-Frequency Word Review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rson who tells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in the same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t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gna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ites at or wear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______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oys in the family has a ______ pet r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76520" y="1981080"/>
          <a:ext cx="6095880" cy="3581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you wonder about some things?  Do you know why your eyes sometimes water on a warm day?  When we are searching for answers, whom can we ask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5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oys in the family has a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t r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t rat _____ the legs of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oys in the family has a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t r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t rat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na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egs of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uesday’s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time does the game st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What time does the game star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t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Get the ball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Look at that sun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shows surprise or strong feelings.  It begins with a capital letter and ends with an exclama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t is so beauti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so b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me a bas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Get me a bas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a huge bas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That is a huge bask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in th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Put in th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Bring the 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no, I dropped th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Oh no, I dropped the f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we will find out more about searching for answers in “All Alone in Dinosaur H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 person or animal who is strongest of all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2-09-08T22:39:16Z</dcterms:modified>
  <cp:revision>27</cp:revision>
  <dc:subject/>
  <dc:title>Slide 1</dc:title>
</cp:coreProperties>
</file>